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C5CC9-82EC-4045-8AEB-41C93DAFD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37C4-BA7B-49E3-A416-A5AEDF73C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8F618-4774-45CB-BB50-9B3883D95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A9C99-EB21-4B51-AD1F-E63C8FA41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B6194-48FB-4E92-B163-7457B6546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72C5-D78B-4554-916A-899BB4947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545F0-ADF8-4920-8BAB-F2AEB82C6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2A45B-8C65-4135-8F39-C334ADF5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B19A-38F7-4BCB-A84E-6B40A16E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0BF2-8BA4-427E-ABF0-8EA45117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EA01-DD7D-48DA-A077-F0818E4E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6FF05-59A6-43E7-913F-988EE35B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6EBB-CDEA-4C99-947B-A5E3372186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28800" y="380880"/>
            <a:ext cx="5105520" cy="3465720"/>
          </a:xfrm>
          <a:prstGeom prst="rect">
            <a:avLst/>
          </a:prstGeom>
          <a:ln w="0">
            <a:noFill/>
          </a:ln>
        </p:spPr>
      </p:pic>
      <p:sp>
        <p:nvSpPr>
          <p:cNvPr id="42" name=""/>
          <p:cNvSpPr/>
          <p:nvPr/>
        </p:nvSpPr>
        <p:spPr>
          <a:xfrm>
            <a:off x="1676520" y="49528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ding Paragraphs in the Persuasive Ess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914400" y="1676520"/>
            <a:ext cx="7010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author’s arguments?  Why does he think that dogs make the best p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14400" y="16765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look at another 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914400" y="1676520"/>
            <a:ext cx="7010280" cy="453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look at another exampl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review the facts.  Soccer is the most popular sport, it does not require much equipment, almost anyone can play, and it helps people be in top physical shape.  Is it any wonder that I think soccer is the world’s best spor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914400" y="1676520"/>
            <a:ext cx="7010280" cy="453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thesi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review the facts.  Soccer is the most popular sport, it does not require much equipment, almost anyone can play, and it helps people be in top physical shape.  Is it any wonder that I think soccer is the world’s best spor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914400" y="1676520"/>
            <a:ext cx="7010280" cy="453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thesi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review the facts.  Soccer is the most popular sport, it does not require much equipment, almost anyone can play, and it helps people be in top physical shape.  Is it any wonder that </a:t>
            </a:r>
            <a:r>
              <a:rPr b="0" lang="en-US" sz="2800" spc="-1" strike="noStrike">
                <a:solidFill>
                  <a:srgbClr val="ff0000"/>
                </a:solidFill>
                <a:latin typeface="Arial"/>
              </a:rPr>
              <a:t>I think soccer is the world’s best spor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914400" y="1676520"/>
            <a:ext cx="7010280" cy="501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author’s arguments or reason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review the facts.  Soccer is the most popular sport, it does not require much equipment, almost anyone can play, and it helps people be in top physical shape.  Is it any wonder that I think soccer is the world’s best spor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914400" y="1676520"/>
            <a:ext cx="7010280" cy="501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author’s arguments or reason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review the facts.  </a:t>
            </a:r>
            <a:r>
              <a:rPr b="0" lang="en-US" sz="2800" spc="-1" strike="noStrike">
                <a:solidFill>
                  <a:srgbClr val="ff0000"/>
                </a:solidFill>
                <a:latin typeface="Arial"/>
              </a:rPr>
              <a:t>Soccer is the most popular sport, it does not require much equipment, almost anyone can play, and it helps people be in top physical shape.</a:t>
            </a:r>
            <a:r>
              <a:rPr b="0" lang="en-US" sz="2800" spc="-1" strike="noStrike">
                <a:solidFill>
                  <a:srgbClr val="ffffff"/>
                </a:solidFill>
                <a:latin typeface="Arial"/>
              </a:rPr>
              <a:t>  Is it any wonder that I think soccer is the world’s best spor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80880" y="1219320"/>
            <a:ext cx="80773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work on your concluding paragraph, make sure that you have restated you thesis and also your argu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609480" y="1066680"/>
            <a:ext cx="792504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will be coming around to talk with some of you about concluding paragraphs and I will be asking some of you to share at the end of the worksho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09680" y="380880"/>
            <a:ext cx="5105520" cy="3465720"/>
          </a:xfrm>
          <a:prstGeom prst="rect">
            <a:avLst/>
          </a:prstGeom>
          <a:ln w="0">
            <a:noFill/>
          </a:ln>
        </p:spPr>
      </p:pic>
      <p:sp>
        <p:nvSpPr>
          <p:cNvPr id="61" name=""/>
          <p:cNvSpPr/>
          <p:nvPr/>
        </p:nvSpPr>
        <p:spPr>
          <a:xfrm>
            <a:off x="685800" y="4343400"/>
            <a:ext cx="4343400" cy="199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 Arbor Public Schools</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of Curriculum and Instruc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762120" y="990720"/>
            <a:ext cx="71625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writers want to convince their readers of an opinion or point of view they can write a persuasive ess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762120" y="990720"/>
            <a:ext cx="716256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final or concluding paragraph of a persuasive essay, the author summarizes by restating the opinion or thesis and also by restating argumen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762120" y="990720"/>
            <a:ext cx="71625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look at some examples of concluding paragraph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762120" y="990720"/>
            <a:ext cx="71625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yalty, affection, and protection are three things that a dog will give to their owner, unquestionably and unconditionally.  When it comes to choosing an animal companion, you will find no better pet than the loyal, lovable, dog.</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762120" y="762120"/>
            <a:ext cx="7467480" cy="412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tima"/>
              </a:rPr>
              <a:t>Does the author restate the thesi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yalty, affection, and protection are three things that a dog will give to their owner, unquestionably and unconditionally.  When it comes to choosing an animal companion, you will find no better pet than the loyal, lovable, do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762120" y="762120"/>
            <a:ext cx="7467480" cy="412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tima"/>
              </a:rPr>
              <a:t>Does the author restate the thesi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yalty, affection, and protection are three things that a dog will give to their owner, unquestionably and unconditionally.  </a:t>
            </a:r>
            <a:r>
              <a:rPr b="0" lang="en-US" sz="2400" spc="-1" strike="noStrike">
                <a:solidFill>
                  <a:srgbClr val="ff0000"/>
                </a:solidFill>
                <a:latin typeface="Arial"/>
              </a:rPr>
              <a:t>When it comes to choosing an animal companion, you will find no better pet than the loyal, lovable, do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762120" y="762120"/>
            <a:ext cx="7467480" cy="412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tima"/>
              </a:rPr>
              <a:t>Does the author restate the argumen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yalty, affection, and protection are three things that a dog will give to their owner, unquestionably and unconditionally.  When it comes to choosing an animal companion, you will find no better pet than the loyal, lovable, do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762120" y="762120"/>
            <a:ext cx="7467480" cy="412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tima"/>
              </a:rPr>
              <a:t>Does the author restate the argumen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yalty, affection, and protection are three things that a dog will give to their owner, unquestionably and unconditionally.</a:t>
            </a:r>
            <a:r>
              <a:rPr b="0" lang="en-US" sz="2400" spc="-1" strike="noStrike">
                <a:solidFill>
                  <a:srgbClr val="ffffff"/>
                </a:solidFill>
                <a:latin typeface="Arial"/>
              </a:rPr>
              <a:t>  When it comes to choosing an animal companion, you will find no better pet than the loyal, lovable, do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20:33:11Z</dcterms:created>
  <dc:creator>AAPS</dc:creator>
  <dc:description/>
  <dc:language>en-US</dc:language>
  <cp:lastModifiedBy>AAPS</cp:lastModifiedBy>
  <cp:lastPrinted>2007-12-06T19:40:24Z</cp:lastPrinted>
  <dcterms:modified xsi:type="dcterms:W3CDTF">2007-12-06T19:51:25Z</dcterms:modified>
  <cp:revision>21</cp:revision>
  <dc:subject/>
  <dc:title>PowerPoint Presentation</dc:title>
</cp:coreProperties>
</file>